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9.jpeg" ContentType="image/jpeg"/>
  <Override PartName="/ppt/media/image1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lt-L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346D6C-6A17-486D-9A07-53D4ED9CF899}" type="datetime">
              <a:rPr b="0" lang="lt-LT" sz="1200" spc="-1" strike="noStrike">
                <a:solidFill>
                  <a:srgbClr val="000000"/>
                </a:solidFill>
                <a:latin typeface="Calibri"/>
              </a:rPr>
              <a:t>2026 metų liepos mėnesio 28 diena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95151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900600" y="95151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BF3F6-A432-4D61-9606-8600A6DC12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86F35-41FE-4B62-9F22-D6DC34696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BDCAF-1949-4C53-A56B-F0855ABF1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877526-7DD9-43A8-8640-05E25B1D0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C5413-3131-406F-9D7A-B8D715AB10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6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87AD71-353F-409F-9028-E75EF3D0FB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78C13-B52F-4F73-A69C-3E40A63A6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kaidrės numerio vietos rezervavimo ženklas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26106-AC46-4194-835F-B9F646261E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D903A-A582-46DB-967A-A5D2FB9E59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0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2228D-26E5-49B6-8D2E-67BD64C54E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kaidrės numerio vietos rezervavimo ženklas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3BE19-8EBA-4F71-B95C-FBED0D207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628114-B242-4E7B-9594-5799AC17B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Skaidrės numerio vietos rezervavimo ženklas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04DEC-1735-405A-85E8-498B2C6DF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169C1-DD85-4177-BC2C-632C449ED1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4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C1D7D-70B5-48EB-A4A2-F6A30981A29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6B2B6-8133-49EB-A92E-1B90EAF680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8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33E6E-8EA1-439D-8CBE-B874F602F1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1D0EBB-FB36-4FFE-8DFD-957A5A38D7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2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E3CF6-1D02-4A52-8846-071784D605A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8AC0A-110D-4D06-96EC-FBC31393D2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6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23B03-BACC-4D95-A700-AEE046A5BBA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Date Placeholder 3"/>
          <p:cNvSpPr/>
          <p:nvPr/>
        </p:nvSpPr>
        <p:spPr>
          <a:xfrm>
            <a:off x="3900600" y="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256A42-57CD-4323-983A-8EABFE0E3D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0" name="Slide Number Placeholder 4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CDC4B-2DFA-4CF2-991E-55074E8B88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350E7-612D-4085-BCFE-25DD586D3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768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Slide Number Placeholder 3"/>
          <p:cNvSpPr/>
          <p:nvPr/>
        </p:nvSpPr>
        <p:spPr>
          <a:xfrm>
            <a:off x="3900600" y="9515520"/>
            <a:ext cx="29858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67FFE-4BC5-43B1-A799-35FA74784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F74-438A-4CD0-BAF7-0378255A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23D-C120-44B4-A6F9-1CF2DAE4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26E84-739B-46DC-BA38-BD350A10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87A32-C847-44A2-B039-25F79687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F8310-D073-40C2-AE3F-CDFFB01E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21499-CB88-4F66-A80B-33B189D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E5550-C7C5-467E-986F-42A32C94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4ED58-E9B2-410C-99F2-970860CC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A5A81-6985-4B23-8228-D73CB29B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644607-3483-4690-A906-6EE85750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71309-B094-4839-BCF8-AFB82EF8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DE00A-A4DC-41F1-B0FC-87BD696E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1F33-8D43-482C-B2F9-5A160331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7A257-F03D-4619-BD0E-915F3819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6166B-4E36-4D67-A997-B74CC58B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AC2CE-CFC9-4128-B49A-C4CC303D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B0961-130B-441A-8619-41E14FB4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A5BD8-9A9D-4CF6-8BE4-2B4B90EF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A554C-2F1D-49AE-AD22-E81C7E5B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BD015-15E6-4539-BD62-C6ECD69A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FA248-CB07-4009-8A7F-2F58F20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E6267-A158-400D-B7A3-FBA43DF3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330C7-8364-4DDE-9F14-9F6B0694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543B-4D51-4891-A528-E677C364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23EB3-2954-42AF-B6CC-65082B59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7690F-03DC-4D99-8122-7433F3CD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69D3C-F872-4626-AED5-87B7E3D5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0255B-FF26-4D6B-94EA-97BF8A10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89681-CD1A-4A5E-8C81-F8EB2FFD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E06AD-6A36-4C2A-B5AB-A3A68926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0CA6B-195F-4E5C-B0B4-40BFCB2A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1AB4D-35F3-413F-B286-C335239D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DB5F0-EA02-4569-A553-C942591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1E8BC-CD21-4158-99C5-0106EFB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5419-A320-4BC1-A03C-A3FEE126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7BABF-B6B4-4473-8A0F-A2229874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9521B-BC15-412F-A099-5F87B1BF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A36AB-9EE8-4D4F-BA03-7AF74EF6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91DC7-6D07-4B86-B5F5-A567FF2A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4F38C-BFE9-4B00-A942-67976599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DFBCF-34FA-497B-8CC9-D7223025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5F095-DBCE-4A4D-8529-472A08AF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26454-E05B-491F-BF1A-1AE659F3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A91A4-78F9-4C91-848E-2F5C32F2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84C75-2002-48F4-926E-762B68BA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1681-762A-416B-BF20-682EED70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CDB83-0126-48EB-926B-F9AC7EC4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91868-2598-486C-9DAD-9A6E1CB6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5C2E2-27A2-4A07-94F2-6F1CF2BC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A9239-D872-4F6F-A2DB-E612CC1D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CCC85F-CC38-4AA9-89F4-1217BB12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409D61-8392-455F-BBFD-8F6040F1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71CCD-2466-4A96-BCB1-A79E14EF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1C7F8-13F9-4FA2-AAE9-F1146124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33417-BC5A-44AD-B8B0-68B54224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9FFCA5-6A8D-4AE2-AA04-5297D51F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DE8C-AF0D-47AB-8404-D9C703F7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A5762-1264-4523-AF8C-55491476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73A7A-F1CF-4745-BF0E-A46436B1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6C266-8E82-4E0B-A1D9-17175376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37C4EB-BD4D-4F29-8DDB-FB352202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BBA20-9E02-439C-94CE-ABFA457E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271903-B21F-4F7C-9C37-6EB7DB0C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F8480-0A7D-4DDA-A9D9-238BD7C6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C07B8-52C6-4CB6-A766-6B70F24F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CFC57-E2A6-44AC-99FF-773AE32E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1267C-C068-4CAD-B38B-1E29CD4F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1B6E-B4FA-454D-ADAD-F1CFE0FF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A96F5F-42D9-4EB0-BC83-EDF455CF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52153-826C-48FB-A793-EEC1A381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955D5-4E3D-46AC-BF0F-7E6F296A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2133E-5D04-49EE-952B-04CCF42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252D63-E63E-43E7-8734-3FA48387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DADC2B-8E29-477C-9F72-2EBC23BA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0DB07-B08B-419C-BB47-CC042411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33DAF1-BFF6-40A6-B29B-A48C7E19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49011-2F75-4BF0-9F60-9E0BE3E1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B7EB6-741A-4716-BB55-83BE0F7B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8F82-2135-4D04-AF21-A22FB5F7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C9AB26-D35C-43F6-BCB5-3DC03ACB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166FF-A5BC-49A9-815C-DDF34878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7A3467-C770-4A0B-BB19-40C5E7B5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30303-A352-477F-9F15-0F68CE39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6C5CC9-AC02-430E-BAA5-25734ED1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22D5B-C5CB-4C61-90A5-D771A6B7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F7464-DA32-44EE-9750-6816D885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D9AF4E-D331-409E-BB1E-E707C014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7EF10-870F-4E81-9DA7-01C1B31C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8B5E46-B061-4F7A-9F6C-DFE8B653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B254-8AEF-419F-B17A-14A34A46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47082-2CDC-47AC-AAC0-9633D5B0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9DE0C-8A8A-4A84-BDDE-2EF556CA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5A8DE-DA05-49CA-B97E-16FEC87E2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AF91C-61F7-4AD9-BD2C-BA00D549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EA1B7-5D6C-40D5-9C36-E226B0AB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5B531-F53E-4120-B33A-F3C9AEA8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1B45EA-22E7-4F12-BEED-B24090C7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A5179-6D8E-43E7-957C-CC7910A3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DD6FFB-52F2-4B92-A3ED-1144BA3D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A455E-96EB-4AC9-8709-B7278E8A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A2FA-79A2-4E50-BC00-5149A68A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A86840-9E9D-461D-B1CB-CC1E945E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B15299-5DC8-4322-9824-B49040FC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6C958-CE08-4AEF-910D-C20D1643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85E280-F45F-427E-B7A3-3EF0393A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7E1C79-9DA3-4B1D-851D-074B334F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192B23-968F-42DB-A504-F8170406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E380E-4923-46A3-BF25-4B02CCE9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3FA3AF-61C4-4204-A9C7-4420D700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26738D-30C5-4FB1-B0C0-4A3E5489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4A4AA3-2268-46C1-8BA9-69C06891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50CF-E3C9-488D-94E6-D1110BC2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767A-39DF-4058-AFF9-52AB61DC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296570-06BF-4599-863F-B0651021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7C0B8-ABCE-4CD5-A67A-3E28C7CE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01F76-3A69-4A5F-ABC2-DF56E740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684766-C019-4222-AF80-D68403C4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C4ECD-764C-43F5-BFF4-33E579E5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8D94-BEB8-4C1B-B692-5187D3F3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8F8B-329B-48ED-8B1F-43A89BDF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FEA7-87A5-4123-B50B-E452C42C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A29E-0B5C-4227-A188-AC537F6A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A8592-1DD5-4BC9-A45E-7549E831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9C62-F6CA-4A78-840F-3DFE3C3E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38ABF-F2BE-4026-82F7-3B365672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08A3-D142-4982-9CB0-B4FF8DDD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5E3DA-7261-410D-BCA9-FE463746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AA4-5CF5-4FF9-978E-A27401BF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C175-9C05-44E8-8D75-76E9A5C1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83F8A-D727-4C5A-9BC8-44616A84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35D6B-CCE8-4540-B9CB-A9EDBE25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FD16-5F76-4015-81E6-33D534D7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1C812-41CE-4004-B73B-FEAB1DAB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F912F-C4EF-41EE-B70A-8410C38F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8D214-9FAD-429C-A0D3-E4DCC7A5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B7F2A-99A8-44FB-91B6-71B9AB6E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B87CE-A6AB-41A7-A32C-CB42C1DF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5281D-C3B7-4AD5-A7CC-388A062A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882-076E-4EF1-9F66-2AD221D8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B56D-5777-4D3A-90B5-48A461D2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35A36-7901-4B17-BF97-7F4BE847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A1A85-58E4-4E61-A76E-8C80EF88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162F4-BA95-41F6-8F8F-54591D16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E43F1-EBE9-47B6-B98E-5A4AB509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3155E-BCCA-4DBA-9796-F225B074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108BA-4B68-4DED-97CB-AAFD0682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41F7E-B589-49B8-A17D-3262876A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45155-64FE-4C92-ABEC-B378C39D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0639E-5B42-42E2-B8CB-AE29F0AA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916C-48A6-40C5-86BA-B33F5110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D9316-F11C-447B-8B6C-B276A179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69219-48A3-4271-9E50-F47C4980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D143B-FC5C-4494-9A46-4BE1CDB2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140E9-7504-4470-AD6A-32017B89E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66499-C012-410A-B628-BF405FC5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E94B6-43A7-4EB4-BA94-94C9FBCC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46C7F-FD7A-4396-8EFA-EFCFED9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2EBF0-E1B2-4B36-8335-B5FC8A21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6D62-49DB-48AA-B887-48091472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2E121-E648-45B1-BF1B-384D6295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5BA-DF26-47EF-9176-83C015EE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51ACC-CA67-47EB-B42F-2D74E892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491AD-5BE3-4C10-81B2-937E2A53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AF933-43D2-4724-BAE0-BD470CBA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464C7-71C9-40B8-9ECF-8247FAC2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DBDCE-041E-4F62-B6CC-17A4CF09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AC3CD-6494-45EA-B16E-D563761B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94C6A-6351-4ADE-B017-5C0C111C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7AC4D-9719-491D-B32A-923CFBE9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98B3A-B15D-4DED-8CDC-ECFAC94B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31934-7C8D-4285-BAB3-86F33671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DD2-593D-4934-B95C-F37D37AD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A7713-42E3-449D-97C6-6DA13FEF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95890-3AD2-479F-B2B5-672150FB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D60C7-BAF9-4BD8-946C-6E020AB5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9F04E-4241-41D4-8A55-68A5AE9E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62185-AC53-4AC9-A28F-02A26774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3F23C-7889-48ED-9085-F884C9DF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7D459-1E1B-40FD-99A8-83149C9A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62196-6A7F-4250-9E6C-7927AD51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59367-EE79-4F25-9E3E-B4C5F16E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20731-C852-4BF3-A78A-3A19779C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67A-6919-4915-A6B7-15039490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A254C-D151-45EE-B59C-EC0D9109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8E0D9-743B-4466-8E55-7DCE0DBF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71749-D5F3-49C5-B67E-3EB330CE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1A8AB-E074-47D1-8AB0-CE368692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7EF66-945D-468B-AECD-11DA2100E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48DF7-2961-41C6-A4F3-E45F98DE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D0784-3D8B-440D-90E9-B4B808C5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1F05B-4413-44A5-A381-CF93D0E0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319D7-5F98-4749-8E4E-85461309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42340-3AD5-4EEC-BD3B-178707BE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926-576C-4144-A4A9-4DA3029B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6268B-9FE9-4B12-B52C-D1604E7D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36729-DC66-4BDE-8855-6B6DBA14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6545F-DFAB-44C7-B649-FEFD4335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7B720-5D43-403E-8630-ECB53712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F6D60-F1D3-4FC8-94C9-64F257C3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EBC16-E609-4938-B7E5-F38C3963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9ED1D-DF74-436A-B2D2-EBC72B89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5BEDB-9F7D-4C09-A33B-752C3B021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A04F4-E8A3-4084-B3F1-F1C67F8C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F3746-1527-404B-A196-7C890117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FC381F-5BEC-4DA1-95CF-E733054B29F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0D1B6-C6E0-4FEC-8C60-EDCB42F0FB6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E11471-6BCD-40BA-8C85-C5B47F14E29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860C1-97D8-4C30-919E-61A3B5060B7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68E49-5A64-4BEF-AABD-1118B5BD6DF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0a22e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E21D2-5C81-4420-B82A-66DEF0D428A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E36D5-4A8F-442B-A8AB-12ABE1D2FA0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10118-75A9-4397-8CDD-8B1122231F5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0AC7A9-2C58-4949-AFD0-D2065C4045A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C7B10-3E84-408F-BE1C-A465B50949E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0CA36-6EFF-4389-8FDA-B8A56CB4431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4F266-801B-4066-87CE-2FB58E61584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1A2D4-60CB-437B-8541-074225002A2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24BF1-BE10-473F-BEFC-D32BA17977D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CFE55-A19B-4C48-8838-703F19869EF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85C5B-C5D5-48C7-81B1-C68ECAAC630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e3b3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e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e3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539DF-3F55-4FCF-A62E-D28A2669455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delfi.lt/keliones/po-lietuva/senovines-bitininkystes-muziejuje-saldi-pazintis-su-amato-istorija.d?id=75385009" TargetMode="External"/><Relationship Id="rId2" Type="http://schemas.openxmlformats.org/officeDocument/2006/relationships/hyperlink" Target="https://www.google.com/url?sa=i&amp;rct=j&amp;q=&amp;esrc=s&amp;source=images&amp;cd=&amp;ved=2ahUKEwjxzPL8gvriAhXuyKYKHbNmBGQQjRx6BAgBEAU&amp;url=https%3A%2F%2Fwww.efoto.lt%2Fnode%2F1189556&amp;psig=AOvVaw1BQMGVRIe0JZMruHMubzxa&amp;ust=1561187546725587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s://www.google.com/url?sa=i&amp;rct=j&amp;q=&amp;esrc=s&amp;source=images&amp;cd=&amp;ved=2ahUKEwilx9CPg_riAhX88KYKHZ3lBeYQjRx6BAgBEAU&amp;url=https%3A%2F%2Fwww.15min.lt%2Fnaujiena%2Faktualu%2Flietuva%2Fpasvalio-mero-fenomenas-ar-rinkejai-atsidure-politineje-smegduobeje-56-1108406&amp;psig=AOvVaw1BQMGVRIe0JZMruHMubzxa&amp;ust=1561187546725587" TargetMode="External"/><Relationship Id="rId5" Type="http://schemas.openxmlformats.org/officeDocument/2006/relationships/image" Target="../media/image15.jpeg"/><Relationship Id="rId6" Type="http://schemas.openxmlformats.org/officeDocument/2006/relationships/hyperlink" Target="https://www.google.com/url?sa=i&amp;rct=j&amp;q=&amp;esrc=s&amp;source=images&amp;cd=&amp;ved=2ahUKEwjQ5-XQg_riAhVDyKYKHbdeAB0QjRx6BAgBEAU&amp;url=https%3A%2F%2Flt.wikipedia.org%2Fwiki%2FRauboni%25C5%25B3_vandens_mal%25C5%25ABnas&amp;psig=AOvVaw2XNcJjZvBNgOcBe1TfmTk3&amp;ust=1561187723933073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s://www.google.com/url?sa=i&amp;rct=j&amp;q=&amp;esrc=s&amp;source=images&amp;cd=&amp;ved=2ahUKEwjOzarug_riAhXSwsQBHb3sAiQQjRx6BAgBEAU&amp;url=http%3A%2F%2Fwww.turistopasaulis.lt%2Fjoniskelio-dvaras%2F&amp;psig=AOvVaw2h0dtz0EquKMZ6Y7NHAUQD&amp;ust=1561187784484323" TargetMode="External"/><Relationship Id="rId9" Type="http://schemas.openxmlformats.org/officeDocument/2006/relationships/image" Target="../media/image17.jpeg"/><Relationship Id="rId10" Type="http://schemas.openxmlformats.org/officeDocument/2006/relationships/hyperlink" Target="https://www.google.com/url?sa=i&amp;rct=j&amp;q=&amp;esrc=s&amp;source=images&amp;cd=&amp;ved=2ahUKEwiZ8KuUhPriAhVYxcQBHToSBHsQjRx6BAgBEAU&amp;url=https%3A%2F%2Fmamyciuklubas.lt%2Fmoteru-klubas%2Fpakeliui-i-latvija-rauboniu-zooparkas-50081%2F&amp;psig=AOvVaw3AaX_cfiBuf6QEvbrlI7SM&amp;ust=1561187847610299" TargetMode="External"/><Relationship Id="rId11" Type="http://schemas.openxmlformats.org/officeDocument/2006/relationships/image" Target="../media/image18.jpeg"/><Relationship Id="rId12" Type="http://schemas.openxmlformats.org/officeDocument/2006/relationships/hyperlink" Target="https://www.google.com/url?sa=i&amp;rct=j&amp;q=&amp;esrc=s&amp;source=images&amp;cd=&amp;ved=2ahUKEwjA58CthPriAhVHJZoKHa9-B1EQjRx6BAgBEAU&amp;url=http%3A%2F%2Fwww.turistopasaulis.lt%2Fgirnu-muziejus-pasvalyje%2F&amp;psig=AOvVaw3mynqzmrO0yhIzKcRBrUZz&amp;ust=1561187916112861" TargetMode="External"/><Relationship Id="rId13" Type="http://schemas.openxmlformats.org/officeDocument/2006/relationships/image" Target="../media/image19.jpeg"/><Relationship Id="rId14" Type="http://schemas.openxmlformats.org/officeDocument/2006/relationships/hyperlink" Target="https://www.google.com/url?sa=i&amp;rct=j&amp;q=&amp;esrc=s&amp;source=images&amp;cd=&amp;ved=&amp;url=http%3A%2F%2Fkauno.diena.lt%2Fnaujienos%2Flietuva%2Fsalies-pulsas%2Fnaujas-latviu-traukos-centras-lietuvoje-pasvalys-620175&amp;psig=AOvVaw32QYWw_YkSvaZj3WgdoaRK&amp;ust=1561187955467349" TargetMode="External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25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www.governmentjobs.com/jobs?keyword=Agriculture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s://www.iconfinder.com/icons/533156/acquisition_business_chart_data_graph_growth_investment_icon" TargetMode="External"/><Relationship Id="rId4" Type="http://schemas.openxmlformats.org/officeDocument/2006/relationships/image" Target="../media/image22.png"/><Relationship Id="rId5" Type="http://schemas.openxmlformats.org/officeDocument/2006/relationships/hyperlink" Target="https://www.flaticon.com/packs/manufacturing-and-production" TargetMode="External"/><Relationship Id="rId6" Type="http://schemas.openxmlformats.org/officeDocument/2006/relationships/image" Target="../media/image23.png"/><Relationship Id="rId7" Type="http://schemas.openxmlformats.org/officeDocument/2006/relationships/hyperlink" Target="http://www.youthservices-gn.org/local-resources/" TargetMode="External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thenounproject.com/term/students/75253/" TargetMode="External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501920" y="3806640"/>
            <a:ext cx="597672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lt-LT" sz="2900" spc="-1" strike="noStrike">
                <a:solidFill>
                  <a:srgbClr val="262626"/>
                </a:solidFill>
                <a:latin typeface="Cambria"/>
              </a:rPr>
              <a:t>PASVALIO RAJONO SAVIVALDYBĖS STRATEGINIS PLĖTROS PLANAS 2021–2027 METAMS</a:t>
            </a:r>
            <a:br>
              <a:rPr sz="2300"/>
            </a:br>
            <a:r>
              <a:rPr b="0" i="1" lang="lt-LT" sz="1800" spc="-1" strike="noStrike">
                <a:solidFill>
                  <a:srgbClr val="262626"/>
                </a:solidFill>
                <a:latin typeface="Cambria"/>
              </a:rPr>
              <a:t>KOMITETAI, TARYBA</a:t>
            </a: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501920" y="5373720"/>
            <a:ext cx="685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400" spc="-1" strike="noStrike">
                <a:solidFill>
                  <a:srgbClr val="595959"/>
                </a:solidFill>
                <a:latin typeface="Garamond"/>
              </a:rPr>
              <a:t>2019 m. rugpjūtis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TextBox 8"/>
          <p:cNvSpPr/>
          <p:nvPr/>
        </p:nvSpPr>
        <p:spPr>
          <a:xfrm>
            <a:off x="7451640" y="504720"/>
            <a:ext cx="151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lt-LT" sz="1200" spc="-1" strike="noStrike">
                <a:solidFill>
                  <a:srgbClr val="000000"/>
                </a:solidFill>
                <a:latin typeface="Cambria"/>
              </a:rPr>
              <a:t>Pasvalio rajono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lt-LT" sz="1200" spc="-1" strike="noStrike">
                <a:solidFill>
                  <a:srgbClr val="000000"/>
                </a:solidFill>
                <a:latin typeface="Cambria"/>
              </a:rPr>
              <a:t>savivaldybės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1200" spc="-1" strike="noStrike">
                <a:solidFill>
                  <a:srgbClr val="000000"/>
                </a:solidFill>
                <a:latin typeface="Cambria"/>
              </a:rPr>
              <a:t>          </a:t>
            </a:r>
            <a:r>
              <a:rPr b="1" lang="lt-LT" sz="1200" spc="-1" strike="noStrike">
                <a:solidFill>
                  <a:srgbClr val="000000"/>
                </a:solidFill>
                <a:latin typeface="Cambria"/>
              </a:rPr>
              <a:t>administracij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86" name="Picture 1" descr=""/>
          <p:cNvPicPr/>
          <p:nvPr/>
        </p:nvPicPr>
        <p:blipFill>
          <a:blip r:embed="rId1"/>
          <a:stretch/>
        </p:blipFill>
        <p:spPr>
          <a:xfrm>
            <a:off x="250920" y="396720"/>
            <a:ext cx="1584360" cy="820800"/>
          </a:xfrm>
          <a:prstGeom prst="rect">
            <a:avLst/>
          </a:prstGeom>
          <a:ln w="0">
            <a:noFill/>
          </a:ln>
        </p:spPr>
      </p:pic>
      <p:pic>
        <p:nvPicPr>
          <p:cNvPr id="1187" name="Paveikslėlis 7" descr=""/>
          <p:cNvPicPr/>
          <p:nvPr/>
        </p:nvPicPr>
        <p:blipFill>
          <a:blip r:embed="rId2"/>
          <a:stretch/>
        </p:blipFill>
        <p:spPr>
          <a:xfrm>
            <a:off x="7020000" y="587520"/>
            <a:ext cx="763560" cy="8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574280" y="620280"/>
            <a:ext cx="6347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BALSAVIMO REZULTATAI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7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9ABA1-3E04-4762-9D5A-B16B66223679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38" name="Chart 6" descr=""/>
          <p:cNvPicPr/>
          <p:nvPr/>
        </p:nvPicPr>
        <p:blipFill>
          <a:blip r:embed="rId1"/>
          <a:stretch/>
        </p:blipFill>
        <p:spPr>
          <a:xfrm>
            <a:off x="1042920" y="1414440"/>
            <a:ext cx="7412040" cy="4316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541160" y="549000"/>
            <a:ext cx="635004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VIZIJOS KŪRIMO EIGA (2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522080" y="1557000"/>
            <a:ext cx="73436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mbria"/>
              </a:rPr>
              <a:t>Strateginio planavimo grupės posėdyje gyventojų išrinktas vizijos variantas buvo pakoreguota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499691-2DAB-47F1-875A-AB4AB7A6424E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285920" y="204480"/>
            <a:ext cx="7618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600" spc="-1" strike="noStrike">
                <a:solidFill>
                  <a:srgbClr val="262626"/>
                </a:solidFill>
                <a:latin typeface="Cambria"/>
              </a:rPr>
              <a:t>PASVALIO RAJONO PLĖTROS VIZIJA IKI 2027 M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991800" y="2936520"/>
            <a:ext cx="3862440" cy="21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800" spc="-1" strike="noStrike">
                <a:solidFill>
                  <a:srgbClr val="464653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5" name="AutoShape 21">
            <a:hlinkClick r:id="rId1"/>
          </p:cNvPr>
          <p:cNvSpPr/>
          <p:nvPr/>
        </p:nvSpPr>
        <p:spPr>
          <a:xfrm>
            <a:off x="3032280" y="2262240"/>
            <a:ext cx="611172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800" spc="-1" strike="noStrike" u="sng">
                <a:solidFill>
                  <a:srgbClr val="404040"/>
                </a:solidFill>
                <a:uFillTx/>
                <a:latin typeface="Cambria"/>
                <a:ea typeface="Cambria"/>
              </a:rPr>
              <a:t>Pasvalio kraštas</a:t>
            </a:r>
            <a:r>
              <a:rPr b="0" lang="lt-LT" sz="2800" spc="-1" strike="noStrike">
                <a:solidFill>
                  <a:srgbClr val="404040"/>
                </a:solidFill>
                <a:latin typeface="Cambria"/>
                <a:ea typeface="Cambria"/>
              </a:rPr>
              <a:t> – sveika, veikli bendruomenė, gyvenanti kokybiškoje ir saugioje aplinkoje, vystanti inovatyvų žemės ūkį ir produkcijos perdirbimą, pažintinį turizmą, sauganti kultūros paveldą ir unikalią pasvalietišką tarmę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6" name="Picture 14" descr="Image result for pasvaly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6160" y="5297400"/>
            <a:ext cx="2670120" cy="158436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6" descr="Image result for pasvaly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29560" y="4941720"/>
            <a:ext cx="2122200" cy="19400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8" descr="Image result for raubonių malūna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21360" y="865080"/>
            <a:ext cx="1938600" cy="141624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20" descr="Image result for joniškėlio dvaras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9960" y="3075120"/>
            <a:ext cx="2381040" cy="1584360"/>
          </a:xfrm>
          <a:prstGeom prst="rect">
            <a:avLst/>
          </a:prstGeom>
          <a:ln w="0">
            <a:noFill/>
          </a:ln>
        </p:spPr>
      </p:pic>
      <p:pic>
        <p:nvPicPr>
          <p:cNvPr id="1250" name="Picture 22" descr="Image result for raubonių zooparka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0" y="4645080"/>
            <a:ext cx="2606760" cy="156348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24" descr="Image result for girnų ekspozicija pasvalio rajone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13240" y="782640"/>
            <a:ext cx="2416320" cy="160668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26" descr="Related image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0" y="1523880"/>
            <a:ext cx="2606760" cy="1594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476360" y="658440"/>
            <a:ext cx="6588000" cy="7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600" spc="-1" strike="noStrike">
                <a:solidFill>
                  <a:srgbClr val="262626"/>
                </a:solidFill>
                <a:latin typeface="Cambria"/>
              </a:rPr>
              <a:t>PRISTATYMO TIKSLA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826560" y="1739880"/>
            <a:ext cx="77058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Cambr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grpSp>
        <p:nvGrpSpPr>
          <p:cNvPr id="1255" name="Group 32"/>
          <p:cNvGrpSpPr/>
          <p:nvPr/>
        </p:nvGrpSpPr>
        <p:grpSpPr>
          <a:xfrm>
            <a:off x="1332000" y="2398680"/>
            <a:ext cx="863640" cy="831960"/>
            <a:chOff x="1332000" y="2398680"/>
            <a:chExt cx="863640" cy="831960"/>
          </a:xfrm>
        </p:grpSpPr>
        <p:sp>
          <p:nvSpPr>
            <p:cNvPr id="1256" name="Oval 33"/>
            <p:cNvSpPr/>
            <p:nvPr/>
          </p:nvSpPr>
          <p:spPr>
            <a:xfrm>
              <a:off x="1332000" y="2438280"/>
              <a:ext cx="792360" cy="792360"/>
            </a:xfrm>
            <a:prstGeom prst="ellipse">
              <a:avLst/>
            </a:prstGeom>
            <a:gradFill rotWithShape="0">
              <a:gsLst>
                <a:gs pos="0">
                  <a:srgbClr val="f2ad54"/>
                </a:gs>
                <a:gs pos="100000">
                  <a:srgbClr val="ed991e"/>
                </a:gs>
              </a:gsLst>
              <a:lin ang="5400000"/>
            </a:gradFill>
            <a:ln cap="rnd" w="9360">
              <a:solidFill>
                <a:srgbClr val="e59a2b"/>
              </a:solidFill>
              <a:miter/>
            </a:ln>
            <a:effectLst>
              <a:outerShdw dist="1260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57" name="TextBox 34"/>
            <p:cNvSpPr/>
            <p:nvPr/>
          </p:nvSpPr>
          <p:spPr>
            <a:xfrm>
              <a:off x="1476360" y="2398680"/>
              <a:ext cx="719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lt-LT" sz="4800" spc="-1" strike="noStrike">
                  <a:solidFill>
                    <a:srgbClr val="ffffff"/>
                  </a:solidFill>
                  <a:latin typeface="Century Gothic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58" name="Stačiakampis 26"/>
          <p:cNvSpPr/>
          <p:nvPr/>
        </p:nvSpPr>
        <p:spPr>
          <a:xfrm>
            <a:off x="1938240" y="2274840"/>
            <a:ext cx="69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ambria"/>
              </a:rPr>
              <a:t>Pristatyti vidaus ir išorės analizės pagrindines išvadas, prioritetus ir investicines kryptis iki 2027 met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9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A074BC-58B8-45BB-AD5C-48482E8D1FE2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7201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000" spc="-1" strike="noStrike">
                <a:solidFill>
                  <a:srgbClr val="262626"/>
                </a:solidFill>
                <a:latin typeface="Cambria"/>
              </a:rPr>
              <a:t>PASVALIO RAJONO SPP PRIORITETAI IKI 2027 METŲ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171440" y="1582560"/>
            <a:ext cx="763272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I prioritetas. PAŽANGI IR KONKURENCINGA EKONOMIKA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800" spc="-1" strike="noStrike">
                <a:solidFill>
                  <a:srgbClr val="f0a22e"/>
                </a:solidFill>
                <a:latin typeface="Cambria"/>
              </a:rPr>
              <a:t>II prioritetas. AUKŠTA GYVENIMO KOKYBĖ SOCIALIAI ATSAKINGAME IR PILIEŠIKAME RAJONE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III prioritetas. ŠVARESNIS, IŠVYSTYTAS IR GERIAU PASIEKIAMAS RAJONA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800" spc="-1" strike="noStrike">
                <a:solidFill>
                  <a:srgbClr val="f0a22e"/>
                </a:solidFill>
                <a:latin typeface="Cambria"/>
              </a:rPr>
              <a:t>IV prioritetas. SAUGUS RAJONAS IR EFEKTYVI SAVIVALDA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B8F888-9BE4-4167-8B3D-1F4A1BE1E181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393920" y="510840"/>
            <a:ext cx="662472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 PRIORITETAS. PAŽANGI IR KONKURENCINGA EKONOMIK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PAGRINDINĖS IŠVADOS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11280" y="1444680"/>
          <a:ext cx="8424720" cy="4827600"/>
        </p:xfrm>
        <a:graphic>
          <a:graphicData uri="http://schemas.openxmlformats.org/drawingml/2006/table">
            <a:tbl>
              <a:tblPr/>
              <a:tblGrid>
                <a:gridCol w="1380960"/>
                <a:gridCol w="7043760"/>
              </a:tblGrid>
              <a:tr h="831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Žemės ūkio kraštas, kurio žemių našumo balas yra vienas didžiausių šalyje, čia labiau plėtojama augalininkystės ša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5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Nors tiesioginių ir materialinių užsienio investicijų srautai auga, tačiau atsilieka nuo šalies ir regiono rodikli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976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desnė nei vidutiniškai šalyje pramonės sektoriuje dirbančių ūkio subjektų dalis, mažesnė – mokslinėje ir techninėje veiklo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asirinkta Panevėžio regiono verslo specializacija – </a:t>
                      </a:r>
                      <a:r>
                        <a:rPr b="0" i="1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obotika ir automatizavimas, biotechnologijos, transportas, pramonė ir logistika, baldai  ir tekstilė, žemės ūkis ir gamtos ištekliai, maisto ir gėrimų gamyba – </a:t>
                      </a: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įtakos ir Pasvalio rajono verslo kryp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4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Ypač svarbus nacionalinės reikšmės arealas kraštovaizdžio naudojimo ir apsaugos prasme, tačiau vidutinio potencialo rekreacinis area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65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746FC-4B96-4910-B6FE-8F735877BE46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66" name="Picture 10" descr="Vaizdo rezultatas pagal užklausą „crop production icon png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880" y="1444680"/>
            <a:ext cx="1054080" cy="76212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15" descr="Vaizdo rezultatas pagal užklausą „investment icon png“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8480" y="2219400"/>
            <a:ext cx="993960" cy="88416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16" descr="Vaizdo rezultatas pagal užklausą „manufacturing and services icon png“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640" y="3608280"/>
            <a:ext cx="1187640" cy="104292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17" descr="Vaizdo rezultatas pagal užklausą „recreational resources icons png“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28720" y="5157720"/>
            <a:ext cx="112860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66232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 PRIORITETAS. PAŽANGI IR KONKURENCINGA EKONOMIK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INVESTICIJŲ KRYPTYS (I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1116000" y="1506600"/>
          <a:ext cx="7451640" cy="4754520"/>
        </p:xfrm>
        <a:graphic>
          <a:graphicData uri="http://schemas.openxmlformats.org/drawingml/2006/table">
            <a:tbl>
              <a:tblPr/>
              <a:tblGrid>
                <a:gridCol w="74516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199"/>
                        </a:spcBef>
                        <a:spcAft>
                          <a:spcPts val="1199"/>
                        </a:spcAft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odernizuoti žemės ūkius, plėtoti alternatyvias žemės ūkiui veiklas kaime, skatinti vietinio maisto sistemų atsiradimą ir plėtoji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varstyti galimybę įkurti LEZ/ PP filialą, įkurti verslo slėnį/ inkubatorių/ centr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styti </a:t>
                      </a:r>
                      <a:r>
                        <a:rPr b="0" i="1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obotikos ir automatizavimo, biotechnologijų, transporto ir logistikos bei perdirbamosios pramonės </a:t>
                      </a: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eiklas, kurti verslo klasterius, skatinti ekologinių inovacijų versle atsiradi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aikyti mokesčių lengvatas, „žaliojo koridoriaus“ principu taikomas investuotojų įsikūrimo procedūras, remti SVV versl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72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2228C-39D4-4A22-9959-EE262D2FE111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403280" y="475920"/>
            <a:ext cx="66232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 PRIORITETAS. PAŽANGI IR KONKURENCINGA EKONOMIK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INVESTICIJŲ KRYPTYS (II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74" name=""/>
          <p:cNvGraphicFramePr/>
          <p:nvPr/>
        </p:nvGraphicFramePr>
        <p:xfrm>
          <a:off x="1042920" y="1371600"/>
          <a:ext cx="7777080" cy="49608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13143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katinti privataus ir viešojo sektoriaus partnerystę, vykdyti verslo bei turizmo rinkodaros priemones, organizuoti moky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9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katinti „jauno verslo“, nuotoliniu būdu dirbančių gyventojų „ekosistemas“, diegti socialinio verslo modelius, gerinti gyventojų ekonominį mobilum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8701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urti, plėsti ir atnaujinti rekreacijos, aktyvaus poilsio, kulinarinio, pažintinio turizmo infrastruktūr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įveiklinti kultūros, gamtos, sakralinio, technikos, archeologinio paveldo objektus, dvarus bei dvarų teritorij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75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E9E16-14E7-4984-937A-4A930A94452C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403280" y="549000"/>
            <a:ext cx="756144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 PRIORITETAS. PAŽANGI IR KONKURENCINGA EKONOMIK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TIKSLAI IR UŽDAVINIAI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77" name="Content Placeholder 8" descr=""/>
          <p:cNvPicPr/>
          <p:nvPr/>
        </p:nvPicPr>
        <p:blipFill>
          <a:blip r:embed="rId1"/>
          <a:stretch/>
        </p:blipFill>
        <p:spPr>
          <a:xfrm>
            <a:off x="450720" y="1414440"/>
            <a:ext cx="8236080" cy="4741920"/>
          </a:xfrm>
          <a:prstGeom prst="rect">
            <a:avLst/>
          </a:prstGeom>
          <a:ln w="0">
            <a:noFill/>
          </a:ln>
        </p:spPr>
      </p:pic>
      <p:sp>
        <p:nvSpPr>
          <p:cNvPr id="1278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F4406F-5394-4D37-9D09-4E0166F1DDFE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698508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I PRIORITETAS. AUKŠTA GYVENIMO KOKYBĖ SOCIALIAI ATSAKINGAME IR PILIETIŠKAME RAJONE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PAGRINDINĖS IŠVADOS (I)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0" name=""/>
          <p:cNvGraphicFramePr/>
          <p:nvPr/>
        </p:nvGraphicFramePr>
        <p:xfrm>
          <a:off x="690480" y="1665360"/>
          <a:ext cx="7952040" cy="4429080"/>
        </p:xfrm>
        <a:graphic>
          <a:graphicData uri="http://schemas.openxmlformats.org/drawingml/2006/table">
            <a:tbl>
              <a:tblPr/>
              <a:tblGrid>
                <a:gridCol w="1303560"/>
                <a:gridCol w="66484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žėjantis mokinių skaičius BUM, bet augantis ikimokyklinio ir priešmokyklinio ugdymo auklėtinių skaič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Beveik 65 proc. vaikų dalyvauja neformaliojo švietimo veiklo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eikia Pasvalio sporto mokykla, plėtojamos 7 sporto šakos, organizuojami įvairūs sporto renginiai, aktyviai veikia sporto klub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Ateityje augantis slaugos, geriatrijos ir panašių paslaugų poreikis dėl sparčiai senstančios visuomenė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81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6ADFB-DF21-4344-A8A5-ED205FCEC6B7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2" name="Picture 8" descr="Vaizdo rezultatas pagal užklausą „pupil icons png“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3920" y="1859040"/>
            <a:ext cx="1030320" cy="865080"/>
          </a:xfrm>
          <a:prstGeom prst="rect">
            <a:avLst/>
          </a:prstGeom>
          <a:ln w="0">
            <a:noFill/>
          </a:ln>
        </p:spPr>
      </p:pic>
      <p:pic>
        <p:nvPicPr>
          <p:cNvPr id="1283" name="Picture 13" descr="Susijęs vaizdas"/>
          <p:cNvPicPr/>
          <p:nvPr/>
        </p:nvPicPr>
        <p:blipFill>
          <a:blip r:embed="rId3"/>
          <a:stretch/>
        </p:blipFill>
        <p:spPr>
          <a:xfrm>
            <a:off x="853920" y="3876840"/>
            <a:ext cx="1150920" cy="80460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63" descr="Vaizdo rezultatas pagal užklausą „extracurricular activities icon png“"/>
          <p:cNvPicPr/>
          <p:nvPr/>
        </p:nvPicPr>
        <p:blipFill>
          <a:blip r:embed="rId4"/>
          <a:stretch/>
        </p:blipFill>
        <p:spPr>
          <a:xfrm>
            <a:off x="853920" y="2925720"/>
            <a:ext cx="914400" cy="731880"/>
          </a:xfrm>
          <a:prstGeom prst="rect">
            <a:avLst/>
          </a:prstGeom>
          <a:ln w="0">
            <a:noFill/>
          </a:ln>
        </p:spPr>
      </p:pic>
      <p:pic>
        <p:nvPicPr>
          <p:cNvPr id="1285" name="Picture 2" descr="Vaizdo rezultatas pagal užklausą „geriatrics icon png“"/>
          <p:cNvPicPr/>
          <p:nvPr/>
        </p:nvPicPr>
        <p:blipFill>
          <a:blip r:embed="rId5"/>
          <a:stretch/>
        </p:blipFill>
        <p:spPr>
          <a:xfrm>
            <a:off x="884160" y="4979880"/>
            <a:ext cx="914400" cy="9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547640" y="59040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ATLIKTI DARBAI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826560" y="1268280"/>
            <a:ext cx="79282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Sudarytos ir patvirtintos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keturios</a:t>
            </a: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lt-LT" sz="1900" spc="-1" strike="noStrike">
                <a:solidFill>
                  <a:srgbClr val="000000"/>
                </a:solidFill>
                <a:latin typeface="Cambria"/>
              </a:rPr>
              <a:t>Pasvalio rajono savivaldybės strateginio plėtros plano 2021-2027 metams rengimo</a:t>
            </a: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darbo grupės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Atlikta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vidinės ir išorinės aplinkos </a:t>
            </a: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bei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SSGG analizė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Suformuota Pasvalio rajono plėtros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vizija iki 2027 m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Suformuoti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keturi</a:t>
            </a: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 Pasvalio rajono savivaldybės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prioritetai (strateginės kryptys) iki 2027 m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Parengta Pasvalio rajono savivaldybės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strategija iki 2027 m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Parengtas Pasvalio rajono savivaldybės SPP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priemonių planas ir pagrindinių projektų sąrašas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Sudaryta Pasvalio rajono savivaldybės SPP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vertinimo rodiklių ir įgyvendinimo, stebėsenos, atsiskaitymo už rezultatus tvarka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Cambria"/>
              </a:rPr>
              <a:t>Pasvalio rajono savivaldybės SPP projektas buvo </a:t>
            </a:r>
            <a:r>
              <a:rPr b="1" lang="lt-LT" sz="1900" spc="-1" strike="noStrike">
                <a:solidFill>
                  <a:srgbClr val="000000"/>
                </a:solidFill>
                <a:latin typeface="Cambria"/>
              </a:rPr>
              <a:t>viešinamas ir teiktas Pasvalio rajono savivaldybės Strateginio planavimo grupės pritarimui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0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2EB47-3368-4452-A911-A4F68FD9C87E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380600" y="436680"/>
            <a:ext cx="6985080" cy="93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 PRIORITETAS. AUKŠTA GYVENIMO KOKYBĖ SOCIALIAI ATSAKINGAME IR PILIETIŠKAME RAJONE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PAGRINDINĖS IŠVADOS (II)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87" name=""/>
          <p:cNvGraphicFramePr/>
          <p:nvPr/>
        </p:nvGraphicFramePr>
        <p:xfrm>
          <a:off x="826920" y="1528920"/>
          <a:ext cx="7993080" cy="5121000"/>
        </p:xfrm>
        <a:graphic>
          <a:graphicData uri="http://schemas.openxmlformats.org/drawingml/2006/table">
            <a:tbl>
              <a:tblPr/>
              <a:tblGrid>
                <a:gridCol w="1311480"/>
                <a:gridCol w="66816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lečiamos socialinės apsaugos paslaugos, tačiau išlieka neaptarnautos tam tikros tikslinės grupės, dėl ko didėja socialinė atskir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Platus teikiamų paslaugų spektras Pasvalio VB, didelė edukacinių užsiėmimų įvairovė Pasvalio muziejuje, 2017 m. Pasvalio KC suteikta aukščiausia kategor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žėjantis jaunų asmenų skaičius ir jaunimo užimtumo kaime stoka, bet veikia AJE ir AJC, įgyvendinama jaunimo polit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eikianti Pasvalio rajono vietos veiklos grupė, labai aktyvios bendruomenės, svarbūs jų vykdomi projekt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288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19259-3BC2-495C-BBAF-C69651879BBD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9" name="Picture 11" descr="Vaizdo rezultatas pagal užklausą „social services institutions icon png“"/>
          <p:cNvPicPr/>
          <p:nvPr/>
        </p:nvPicPr>
        <p:blipFill>
          <a:blip r:embed="rId1"/>
          <a:stretch/>
        </p:blipFill>
        <p:spPr>
          <a:xfrm>
            <a:off x="871560" y="1620720"/>
            <a:ext cx="1298520" cy="951120"/>
          </a:xfrm>
          <a:prstGeom prst="rect">
            <a:avLst/>
          </a:prstGeom>
          <a:ln w="0">
            <a:noFill/>
          </a:ln>
        </p:spPr>
      </p:pic>
      <p:pic>
        <p:nvPicPr>
          <p:cNvPr id="1290" name="Picture 9" descr="Vaizdo rezultatas pagal užklausą „young people icon png“"/>
          <p:cNvPicPr/>
          <p:nvPr/>
        </p:nvPicPr>
        <p:blipFill>
          <a:blip r:embed="rId2"/>
          <a:stretch/>
        </p:blipFill>
        <p:spPr>
          <a:xfrm>
            <a:off x="974880" y="4438800"/>
            <a:ext cx="1122120" cy="88884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9" descr="Susijęs vaizdas"/>
          <p:cNvPicPr/>
          <p:nvPr/>
        </p:nvPicPr>
        <p:blipFill>
          <a:blip r:embed="rId3"/>
          <a:stretch/>
        </p:blipFill>
        <p:spPr>
          <a:xfrm>
            <a:off x="974880" y="2968560"/>
            <a:ext cx="1122120" cy="103680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2" descr="Vaizdo rezultatas pagal užklausą „non-governmental organization icon png“"/>
          <p:cNvPicPr/>
          <p:nvPr/>
        </p:nvPicPr>
        <p:blipFill>
          <a:blip r:embed="rId4"/>
          <a:stretch/>
        </p:blipFill>
        <p:spPr>
          <a:xfrm>
            <a:off x="1042920" y="5589720"/>
            <a:ext cx="1054080" cy="9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06160" y="429840"/>
            <a:ext cx="70772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 PRIORITETAS. AUKŠTA GYVENIMO KOKYBĖ SOCIALIAI ATSAKINGAME IR PILIETIŠKAME RAJONE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INVESTICIJŲ KRYPTYS (I)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4" name=""/>
          <p:cNvGraphicFramePr/>
          <p:nvPr/>
        </p:nvGraphicFramePr>
        <p:xfrm>
          <a:off x="826920" y="1598760"/>
          <a:ext cx="8150400" cy="5470200"/>
        </p:xfrm>
        <a:graphic>
          <a:graphicData uri="http://schemas.openxmlformats.org/drawingml/2006/table">
            <a:tbl>
              <a:tblPr/>
              <a:tblGrid>
                <a:gridCol w="8150400"/>
              </a:tblGrid>
              <a:tr h="1188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odernizuoti švietimo, socialinės apsaugos, sveikatos priežiūros, kultūros įstaigų infrastruktūrą, diegti inovacij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ritraukti jaunus, kvalifikuotus specialistus į rajon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įgyvendinti vaikų ir jaunimo socializacijos programas, sudaryti sąlygas ugdytinių užimtumui visą dieną, organizuoti moky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egti ugdymo įstaigose </a:t>
                      </a:r>
                      <a:r>
                        <a:rPr b="0" i="1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obotikos ir automatizavimo, biotechnologijų, transporto ir logistikos, žemės ūkio bei pramonės </a:t>
                      </a: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rypčių neformaliojo švietimo programas, vykdyti profesinį orientavimą, kurti dualinę profesinę mokymo siste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714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5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140AC-BEC7-49C7-A13C-05A912BA139F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406160" y="429840"/>
            <a:ext cx="70772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 PRIORITETAS. AUKŠTA GYVENIMO KOKYBĖ SOCIALIAI ATSAKINGAME IR PILIETIŠKAME RAJONE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INVESTICIJŲ KRYPTYS (II)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97" name=""/>
          <p:cNvGraphicFramePr/>
          <p:nvPr/>
        </p:nvGraphicFramePr>
        <p:xfrm>
          <a:off x="912960" y="1598760"/>
          <a:ext cx="8064360" cy="557820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įveiklinti kultūros įstaigų infrastruktūrą europiniams, nacionaliniams, regioniniams keliams (turizmui), švietimui, kitoms viešosioms paslaugoms, ekonominei veiklai (</a:t>
                      </a:r>
                      <a:r>
                        <a:rPr b="0" i="1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bendradarbystės erdvės</a:t>
                      </a: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organizuoti kultūros renginius, skatinti ir remti menininkus, meno mėgėjų kolektyvus, įgyvendinti projektus, kultūros 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katinti gyventojų sveiką gyvenseną, sudaryti palankias sąlygas fiziniam aktyvumui, spręsti sveikatos priežiūros specialistų trūkumo problem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užtikrinti socialines paslaugas pažeidžiamiausioms gyventojų grupėms, kurti vaikui ir šeimai palankią aplink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821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8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68C2D-1ABB-4E59-A05D-68A2A55301FF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406160" y="429840"/>
            <a:ext cx="707724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 PRIORITETAS. AUKŠTA GYVENIMO KOKYBĖ SOCIALIAI ATSAKINGAME IR PILIETIŠKAME RAJONE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INVESTICIJŲ KRYPTYS (III)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00" name=""/>
          <p:cNvGraphicFramePr/>
          <p:nvPr/>
        </p:nvGraphicFramePr>
        <p:xfrm>
          <a:off x="912960" y="1598760"/>
          <a:ext cx="8064360" cy="447984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kurti (pritaikyti) specializuotas programas, skirtas institucinę patirtų turinčių grupių integracij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mti ir skatinti bendruomeninius socialinių inovacijų projektus, įgyvendinti emigrantų grąžinimo, imigrantų integravimo progra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styti jaunimui palankią infrastruktūrą, steigti AJC ir AJE, plėtoti mobilų darbą su jaunimu, remti jaunimo projekt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mti NVO, BO atsiradimą, jų narių skaičiaus augimą, NVO, BO, VVG projek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katinti NVO, BO teikti naujos kartos mišriąsias viešąsias paslaugas, įgyvendinti paskatų siste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1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DEF4D8-8263-49A4-B19B-EBEE1ED92A3E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488360" cy="8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 PRIORITETAS. AUKŠTA GYVENIMO KOKYBĖ SOCIALIAI ATSAKINGAME IR PILIETIŠKAME RAJONE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TIKSLAI IR UŽDAVINIAI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303" name="Content Placeholder 8" descr=""/>
          <p:cNvPicPr/>
          <p:nvPr/>
        </p:nvPicPr>
        <p:blipFill>
          <a:blip r:embed="rId1"/>
          <a:stretch/>
        </p:blipFill>
        <p:spPr>
          <a:xfrm>
            <a:off x="450720" y="1219320"/>
            <a:ext cx="8236080" cy="4937040"/>
          </a:xfrm>
          <a:prstGeom prst="rect">
            <a:avLst/>
          </a:prstGeom>
          <a:ln w="0">
            <a:noFill/>
          </a:ln>
        </p:spPr>
      </p:pic>
      <p:sp>
        <p:nvSpPr>
          <p:cNvPr id="1304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F02B8-297A-44D5-A058-ED61FBFA4003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7128000" cy="97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I PRIORITETAS. ŠVARESNIS, IŠVYSTYTAS IR GERIAU PASIEKIAMAS RAJONAS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PAGRINDINĖS IŠVADOS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920880" y="1279440"/>
          <a:ext cx="8172360" cy="5578560"/>
        </p:xfrm>
        <a:graphic>
          <a:graphicData uri="http://schemas.openxmlformats.org/drawingml/2006/table">
            <a:tbl>
              <a:tblPr/>
              <a:tblGrid>
                <a:gridCol w="1338120"/>
                <a:gridCol w="683424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kdoma aplinkos oro, paviršinio ir požeminio vandens, kraštovaizdžio, triukšmo stebės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išvystyta atliekų surinkimo, rūšiavimo, mažinimo sistema (</a:t>
                      </a:r>
                      <a:r>
                        <a:rPr b="0" i="1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eikia didelių gabaritų, žaliųjų atliekų surinkimo aikštelės</a:t>
                      </a: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), tačiau nepakankamas gyventojų sąmoningumas rūšiuojant atliek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kdoma vandens tiekimo ir nuotekų tvarkymo infrastruktūros plėtra, tačiau gyventojai pasyviai jungiasi prie tinklų, rajoninėje teritorijoje nėra surenkamos lietaus nuotėk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kdoma daugiabučių gyvenamųjų ir viešųjų pastatų renovacija, vystoma alternatyvi energet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patogi susisiekimo sistema</a:t>
                      </a:r>
                      <a:r>
                        <a:rPr b="0" i="1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(Via Baltic, Rail Baltic),</a:t>
                      </a: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bet maža kelių su patobulinta danga da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7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7BD9C-E319-4B58-8181-11A248CEC487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8" name="Picture 8" descr="Vaizdo rezultatas pagal užklausą „environmental monitoring icon png“"/>
          <p:cNvPicPr/>
          <p:nvPr/>
        </p:nvPicPr>
        <p:blipFill>
          <a:blip r:embed="rId1"/>
          <a:stretch/>
        </p:blipFill>
        <p:spPr>
          <a:xfrm>
            <a:off x="914400" y="1274760"/>
            <a:ext cx="1341360" cy="81612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Vaizdo rezultatas pagal užklausą „waste icon png“"/>
          <p:cNvPicPr/>
          <p:nvPr/>
        </p:nvPicPr>
        <p:blipFill>
          <a:blip r:embed="rId2"/>
          <a:stretch/>
        </p:blipFill>
        <p:spPr>
          <a:xfrm>
            <a:off x="974880" y="2371680"/>
            <a:ext cx="1116000" cy="96840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Vaizdo rezultatas pagal užklausą „sewage collection icon png“"/>
          <p:cNvPicPr/>
          <p:nvPr/>
        </p:nvPicPr>
        <p:blipFill>
          <a:blip r:embed="rId3"/>
          <a:stretch/>
        </p:blipFill>
        <p:spPr>
          <a:xfrm>
            <a:off x="969840" y="4022640"/>
            <a:ext cx="1114560" cy="97632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Vaizdo rezultatas pagal užklausą „car icon png“"/>
          <p:cNvPicPr/>
          <p:nvPr/>
        </p:nvPicPr>
        <p:blipFill>
          <a:blip r:embed="rId4"/>
          <a:stretch/>
        </p:blipFill>
        <p:spPr>
          <a:xfrm>
            <a:off x="1163520" y="6029280"/>
            <a:ext cx="920880" cy="79236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1" descr="Vaizdo rezultatas pagal užklausą „apartment building icon png“"/>
          <p:cNvPicPr/>
          <p:nvPr/>
        </p:nvPicPr>
        <p:blipFill>
          <a:blip r:embed="rId5"/>
          <a:stretch/>
        </p:blipFill>
        <p:spPr>
          <a:xfrm>
            <a:off x="1163520" y="5205240"/>
            <a:ext cx="920880" cy="8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282680" y="617040"/>
            <a:ext cx="735984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I PRIORITETAS. ŠVARESNIS, IŠVYSTYTAS IR GERIAU PASIEKIAMAS RAJONAS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INVESTICIJŲ KRYPTYS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4" name=""/>
          <p:cNvGraphicFramePr/>
          <p:nvPr/>
        </p:nvGraphicFramePr>
        <p:xfrm>
          <a:off x="611280" y="1531800"/>
          <a:ext cx="8453520" cy="5311800"/>
        </p:xfrm>
        <a:graphic>
          <a:graphicData uri="http://schemas.openxmlformats.org/drawingml/2006/table">
            <a:tbl>
              <a:tblPr/>
              <a:tblGrid>
                <a:gridCol w="845352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varkyti atliekas ir vykdyti gyventojų aplinkosauginį švieti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augoti, prižiūrėti ir plėtoti žaliuosius plo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4932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erinti kelių infrastruktūrą, didinti eismo saugu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egti darnaus judumo sistemų funkcionavimui būtiną fizinę bei intelektinę infrastruktūrą, remti alternatyvaus pavėžėjimo iniciatyv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udaryti sąlygas naudotis ekologinėmis transporto priemonėmis, kurti ir plėsti infrastruktūrą bevariklio transporto priemonė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dinti mažiau taršių energijos šaltinių panaudojimą, skatinti naudoti alternatyvius ir atsinaujinančius energijos šaltin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erinti kaimo ir miesto gyvenamąją aplink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5" name="Slide Number Placeholder 4"/>
          <p:cNvSpPr/>
          <p:nvPr/>
        </p:nvSpPr>
        <p:spPr>
          <a:xfrm>
            <a:off x="7667640" y="6369120"/>
            <a:ext cx="112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C8E6A-275A-4A8F-A352-F4A132438386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1476000" y="549360"/>
            <a:ext cx="7056360" cy="8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200" spc="-1" strike="noStrike">
                <a:solidFill>
                  <a:srgbClr val="a5644e"/>
                </a:solidFill>
                <a:latin typeface="Cambria"/>
              </a:rPr>
              <a:t>III PRIORITETAS. ŠVARESNIS, IŠVYSTYTAS IR GERIAU PASIEKIAMAS RAJONAS. </a:t>
            </a:r>
            <a:r>
              <a:rPr b="1" i="1" lang="lt-LT" sz="2200" spc="-1" strike="noStrike">
                <a:solidFill>
                  <a:srgbClr val="a5644e"/>
                </a:solidFill>
                <a:latin typeface="Cambria"/>
              </a:rPr>
              <a:t>TIKSLAI IR UŽDAVINIAI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317" name="Content Placeholder 8" descr=""/>
          <p:cNvPicPr/>
          <p:nvPr/>
        </p:nvPicPr>
        <p:blipFill>
          <a:blip r:embed="rId1"/>
          <a:stretch/>
        </p:blipFill>
        <p:spPr>
          <a:xfrm>
            <a:off x="450720" y="1219320"/>
            <a:ext cx="8236080" cy="4937040"/>
          </a:xfrm>
          <a:prstGeom prst="rect">
            <a:avLst/>
          </a:prstGeom>
          <a:ln w="0">
            <a:noFill/>
          </a:ln>
        </p:spPr>
      </p:pic>
      <p:sp>
        <p:nvSpPr>
          <p:cNvPr id="1318" name="Slide Number Placeholder 4"/>
          <p:cNvSpPr/>
          <p:nvPr/>
        </p:nvSpPr>
        <p:spPr>
          <a:xfrm>
            <a:off x="7667640" y="6369120"/>
            <a:ext cx="112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E8A0D-40F0-4920-92CF-40383F0F3796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380600" y="436680"/>
            <a:ext cx="6985080" cy="93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V PRIORITETAS. SAUGUS RAJONAS IR EFEKTYVI SAVIVALD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PAGRINDINĖS IŠVADOS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876240" y="1521000"/>
          <a:ext cx="7993080" cy="3598560"/>
        </p:xfrm>
        <a:graphic>
          <a:graphicData uri="http://schemas.openxmlformats.org/drawingml/2006/table">
            <a:tbl>
              <a:tblPr/>
              <a:tblGrid>
                <a:gridCol w="1311480"/>
                <a:gridCol w="66816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didelis dėmesys skiriamas viešojo saugumo prevencijai, didesnė nei šalyje ir apskrityje ištirtų nusikalstamų veikų dal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žėjantis gaisrų skaičius, bet augantis įskaitinių kelių eismo įvykių skaič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egiamos ir plėtojamos </a:t>
                      </a:r>
                      <a:r>
                        <a:rPr b="0" i="1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e-paslaugos, </a:t>
                      </a: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techninės ir programinės, tinklo saugos priemonės, nuolat atnaujinamos ir prižiūrimos įstaigų, institucijų interneto svetainės, kuriamos socialinės pasky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1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EBC27-FA2E-4442-BDC6-DED832534EB6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22" name="Picture 10" descr="Vaizdo rezultatas pagal užklausą „criminal icon png“"/>
          <p:cNvPicPr/>
          <p:nvPr/>
        </p:nvPicPr>
        <p:blipFill>
          <a:blip r:embed="rId1"/>
          <a:stretch/>
        </p:blipFill>
        <p:spPr>
          <a:xfrm>
            <a:off x="969840" y="1700280"/>
            <a:ext cx="1054080" cy="93960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9" descr="Vaizdo rezultatas pagal užklausą „car crash icon png“"/>
          <p:cNvPicPr/>
          <p:nvPr/>
        </p:nvPicPr>
        <p:blipFill>
          <a:blip r:embed="rId2"/>
          <a:stretch/>
        </p:blipFill>
        <p:spPr>
          <a:xfrm>
            <a:off x="969840" y="2846520"/>
            <a:ext cx="1054080" cy="579240"/>
          </a:xfrm>
          <a:prstGeom prst="rect">
            <a:avLst/>
          </a:prstGeom>
          <a:ln w="0">
            <a:noFill/>
          </a:ln>
        </p:spPr>
      </p:pic>
      <p:pic>
        <p:nvPicPr>
          <p:cNvPr id="1324" name="Picture 12" descr="Vaizdo rezultatas pagal užklausą „website icon png“"/>
          <p:cNvPicPr/>
          <p:nvPr/>
        </p:nvPicPr>
        <p:blipFill>
          <a:blip r:embed="rId3"/>
          <a:stretch/>
        </p:blipFill>
        <p:spPr>
          <a:xfrm>
            <a:off x="969840" y="3846600"/>
            <a:ext cx="1224000" cy="10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401840" y="510840"/>
            <a:ext cx="70768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V PRIORITETAS. SAUGUS RAJONAS IR EFEKTYVI SAVIVALD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INVESTICIJŲ KRYPTYS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26" name=""/>
          <p:cNvGraphicFramePr/>
          <p:nvPr/>
        </p:nvGraphicFramePr>
        <p:xfrm>
          <a:off x="1401840" y="1700280"/>
          <a:ext cx="7489800" cy="3779640"/>
        </p:xfrm>
        <a:graphic>
          <a:graphicData uri="http://schemas.openxmlformats.org/drawingml/2006/table">
            <a:tbl>
              <a:tblPr/>
              <a:tblGrid>
                <a:gridCol w="748980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kdyti mokymus, kvalifikacijos kėli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kdyti prevencines programas ir priem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diegti stebėjimo priemones raj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iekti lygių teisių įgyvendinimo, administracinės naštos bei korupcijos mažini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gerinti informacinių technologijų bazę, diegti e-paslau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852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lt-LT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vystyti tarptautinį, tarpinstitucinį bendradarbiavim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7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57D729-F414-41EC-A433-9E1E87E5D6BD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03280" y="519120"/>
            <a:ext cx="7561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ĮGYVENDINAMI DARBAI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655640" y="1495080"/>
            <a:ext cx="705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ambria"/>
              </a:rPr>
              <a:t>Patikslintas Pasvalio rajono savivaldybės SPP </a:t>
            </a:r>
            <a:r>
              <a:rPr b="1" lang="lt-LT" sz="2000" spc="-1" strike="noStrike">
                <a:solidFill>
                  <a:srgbClr val="000000"/>
                </a:solidFill>
                <a:latin typeface="Cambria"/>
              </a:rPr>
              <a:t>teikiamas svarstyti Pasvalio rajono savivaldybės Komitetams ir tvirtinti Tarybai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49EF6-3E8A-4ECA-922C-6634001D505F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402920" y="558360"/>
            <a:ext cx="6994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2400" spc="-1" strike="noStrike">
                <a:solidFill>
                  <a:srgbClr val="a5644e"/>
                </a:solidFill>
                <a:latin typeface="Cambria"/>
              </a:rPr>
              <a:t>IV PRIORITETAS. SAUGUS RAJONAS IR EFEKTYVI SAVIVALDA. </a:t>
            </a:r>
            <a:r>
              <a:rPr b="1" i="1" lang="lt-LT" sz="2400" spc="-1" strike="noStrike">
                <a:solidFill>
                  <a:srgbClr val="a5644e"/>
                </a:solidFill>
                <a:latin typeface="Cambria"/>
              </a:rPr>
              <a:t>TIKSLAI IR UŽDAVINIAI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329" name="Content Placeholder 8" descr=""/>
          <p:cNvPicPr/>
          <p:nvPr/>
        </p:nvPicPr>
        <p:blipFill>
          <a:blip r:embed="rId1"/>
          <a:stretch/>
        </p:blipFill>
        <p:spPr>
          <a:xfrm>
            <a:off x="450720" y="1219320"/>
            <a:ext cx="8236080" cy="4937040"/>
          </a:xfrm>
          <a:prstGeom prst="rect">
            <a:avLst/>
          </a:prstGeom>
          <a:ln w="0">
            <a:noFill/>
          </a:ln>
        </p:spPr>
      </p:pic>
      <p:sp>
        <p:nvSpPr>
          <p:cNvPr id="1330" name="Slide Number Placeholder 4"/>
          <p:cNvSpPr/>
          <p:nvPr/>
        </p:nvSpPr>
        <p:spPr>
          <a:xfrm>
            <a:off x="7667640" y="6369120"/>
            <a:ext cx="112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FB834-E344-4893-A719-1DA0A78C66A1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879200" y="1989000"/>
            <a:ext cx="63486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5000" spc="-1" strike="noStrike">
                <a:solidFill>
                  <a:srgbClr val="262626"/>
                </a:solidFill>
                <a:latin typeface="Calibri"/>
              </a:rPr>
              <a:t>Dėkojame!</a:t>
            </a:r>
            <a:endParaRPr b="0" lang="en-US" sz="5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28800" y="4266720"/>
            <a:ext cx="7286400" cy="19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333" name="Slide Number Placeholder 4"/>
          <p:cNvSpPr/>
          <p:nvPr/>
        </p:nvSpPr>
        <p:spPr>
          <a:xfrm>
            <a:off x="7667640" y="6369120"/>
            <a:ext cx="11253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8622A-022E-44B8-BACD-78E236F166E2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547280" y="556920"/>
            <a:ext cx="727236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600" spc="-1" strike="noStrike">
                <a:solidFill>
                  <a:srgbClr val="262626"/>
                </a:solidFill>
                <a:latin typeface="Cambria"/>
              </a:rPr>
              <a:t>PRISTATYMO TIKSLA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826560" y="1739880"/>
            <a:ext cx="77058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Cambr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8946D-BCAF-4E81-BE3E-FF133A61D0BA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97" name="Group 32"/>
          <p:cNvGrpSpPr/>
          <p:nvPr/>
        </p:nvGrpSpPr>
        <p:grpSpPr>
          <a:xfrm>
            <a:off x="1547640" y="2060640"/>
            <a:ext cx="863640" cy="831960"/>
            <a:chOff x="1547640" y="2060640"/>
            <a:chExt cx="863640" cy="831960"/>
          </a:xfrm>
        </p:grpSpPr>
        <p:sp>
          <p:nvSpPr>
            <p:cNvPr id="1198" name="Oval 33"/>
            <p:cNvSpPr/>
            <p:nvPr/>
          </p:nvSpPr>
          <p:spPr>
            <a:xfrm>
              <a:off x="1547640" y="2100240"/>
              <a:ext cx="792360" cy="792360"/>
            </a:xfrm>
            <a:prstGeom prst="ellipse">
              <a:avLst/>
            </a:prstGeom>
            <a:gradFill rotWithShape="0">
              <a:gsLst>
                <a:gs pos="0">
                  <a:srgbClr val="f2ad54"/>
                </a:gs>
                <a:gs pos="100000">
                  <a:srgbClr val="ed991e"/>
                </a:gs>
              </a:gsLst>
              <a:lin ang="5400000"/>
            </a:gradFill>
            <a:ln cap="rnd" w="9360">
              <a:solidFill>
                <a:srgbClr val="e59a2b"/>
              </a:solidFill>
              <a:miter/>
            </a:ln>
            <a:effectLst>
              <a:outerShdw dist="1260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9" name="TextBox 34"/>
            <p:cNvSpPr/>
            <p:nvPr/>
          </p:nvSpPr>
          <p:spPr>
            <a:xfrm>
              <a:off x="1692000" y="2060640"/>
              <a:ext cx="719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lt-LT" sz="4800" spc="-1" strike="noStrike">
                  <a:solidFill>
                    <a:srgbClr val="ffffff"/>
                  </a:solidFill>
                  <a:latin typeface="Century Gothic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00" name="Stačiakampis 26"/>
          <p:cNvSpPr/>
          <p:nvPr/>
        </p:nvSpPr>
        <p:spPr>
          <a:xfrm>
            <a:off x="2050920" y="2222640"/>
            <a:ext cx="691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ambria"/>
              </a:rPr>
              <a:t>Pristatyti Pasvalio rajono savivaldybės strateginį plėtros planą 2021-2027 metams skaičiai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92360" y="546120"/>
            <a:ext cx="634824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PASVALIO SPP SKAIČIAIS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826560" y="1739880"/>
            <a:ext cx="77058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Cambr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Stačiakampis 26"/>
          <p:cNvSpPr/>
          <p:nvPr/>
        </p:nvSpPr>
        <p:spPr>
          <a:xfrm>
            <a:off x="2733840" y="187956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DARBO GRUPĖ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4" name="Group 2" descr=""/>
          <p:cNvPicPr/>
          <p:nvPr/>
        </p:nvPicPr>
        <p:blipFill>
          <a:blip r:embed="rId1"/>
          <a:stretch/>
        </p:blipFill>
        <p:spPr>
          <a:xfrm>
            <a:off x="1962000" y="1579680"/>
            <a:ext cx="1128960" cy="1285920"/>
          </a:xfrm>
          <a:prstGeom prst="rect">
            <a:avLst/>
          </a:prstGeom>
          <a:ln w="0">
            <a:noFill/>
          </a:ln>
        </p:spPr>
      </p:pic>
      <p:sp>
        <p:nvSpPr>
          <p:cNvPr id="1205" name="Stačiakampis 21"/>
          <p:cNvSpPr/>
          <p:nvPr/>
        </p:nvSpPr>
        <p:spPr>
          <a:xfrm>
            <a:off x="2733840" y="304308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SUSITIKIMŲ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6" name="Stačiakampis 22"/>
          <p:cNvSpPr/>
          <p:nvPr/>
        </p:nvSpPr>
        <p:spPr>
          <a:xfrm>
            <a:off x="2733840" y="4127400"/>
            <a:ext cx="59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VIZIJA IKI 2027 M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7" name="Group 2" descr=""/>
          <p:cNvPicPr/>
          <p:nvPr/>
        </p:nvPicPr>
        <p:blipFill>
          <a:blip r:embed="rId2"/>
          <a:stretch/>
        </p:blipFill>
        <p:spPr>
          <a:xfrm>
            <a:off x="1962000" y="5089680"/>
            <a:ext cx="1128960" cy="1287360"/>
          </a:xfrm>
          <a:prstGeom prst="rect">
            <a:avLst/>
          </a:prstGeom>
          <a:ln w="0">
            <a:noFill/>
          </a:ln>
        </p:spPr>
      </p:pic>
      <p:pic>
        <p:nvPicPr>
          <p:cNvPr id="1208" name="Group 2" descr=""/>
          <p:cNvPicPr/>
          <p:nvPr/>
        </p:nvPicPr>
        <p:blipFill>
          <a:blip r:embed="rId3"/>
          <a:stretch/>
        </p:blipFill>
        <p:spPr>
          <a:xfrm>
            <a:off x="1700280" y="2719440"/>
            <a:ext cx="1384200" cy="1285920"/>
          </a:xfrm>
          <a:prstGeom prst="rect">
            <a:avLst/>
          </a:prstGeom>
          <a:ln w="0">
            <a:noFill/>
          </a:ln>
        </p:spPr>
      </p:pic>
      <p:pic>
        <p:nvPicPr>
          <p:cNvPr id="1209" name="Group 2" descr=""/>
          <p:cNvPicPr/>
          <p:nvPr/>
        </p:nvPicPr>
        <p:blipFill>
          <a:blip r:embed="rId4"/>
          <a:stretch/>
        </p:blipFill>
        <p:spPr>
          <a:xfrm>
            <a:off x="1962000" y="3822840"/>
            <a:ext cx="1128960" cy="1285560"/>
          </a:xfrm>
          <a:prstGeom prst="rect">
            <a:avLst/>
          </a:prstGeom>
          <a:ln w="0">
            <a:noFill/>
          </a:ln>
        </p:spPr>
      </p:pic>
      <p:sp>
        <p:nvSpPr>
          <p:cNvPr id="1210" name="Stačiakampis 22"/>
          <p:cNvSpPr/>
          <p:nvPr/>
        </p:nvSpPr>
        <p:spPr>
          <a:xfrm>
            <a:off x="2733840" y="5389560"/>
            <a:ext cx="59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PRIORITETA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1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D59EE-4772-4974-8A95-C17D0DC00308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476000" y="608040"/>
            <a:ext cx="634860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PASVALIO SPP SKAIČIAIS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826560" y="1739880"/>
            <a:ext cx="77058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Cambr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Stačiakampis 21"/>
          <p:cNvSpPr/>
          <p:nvPr/>
        </p:nvSpPr>
        <p:spPr>
          <a:xfrm>
            <a:off x="2722680" y="206388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TIKSLŲ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5" name="Stačiakampis 22"/>
          <p:cNvSpPr/>
          <p:nvPr/>
        </p:nvSpPr>
        <p:spPr>
          <a:xfrm>
            <a:off x="2709720" y="3332160"/>
            <a:ext cx="50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UŽDAVINIA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6" name="Stačiakampis 23"/>
          <p:cNvSpPr/>
          <p:nvPr/>
        </p:nvSpPr>
        <p:spPr>
          <a:xfrm>
            <a:off x="2709720" y="4610160"/>
            <a:ext cx="60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PRIEMONĖ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7" name="Stačiakampis 23"/>
          <p:cNvSpPr/>
          <p:nvPr/>
        </p:nvSpPr>
        <p:spPr>
          <a:xfrm>
            <a:off x="2709720" y="5729400"/>
            <a:ext cx="60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Cambria"/>
              </a:rPr>
              <a:t>PROJEKTA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8" name="Group 2" descr=""/>
          <p:cNvPicPr/>
          <p:nvPr/>
        </p:nvPicPr>
        <p:blipFill>
          <a:blip r:embed="rId1"/>
          <a:stretch/>
        </p:blipFill>
        <p:spPr>
          <a:xfrm>
            <a:off x="1474920" y="1792440"/>
            <a:ext cx="1542960" cy="1285560"/>
          </a:xfrm>
          <a:prstGeom prst="rect">
            <a:avLst/>
          </a:prstGeom>
          <a:ln w="0">
            <a:noFill/>
          </a:ln>
        </p:spPr>
      </p:pic>
      <p:pic>
        <p:nvPicPr>
          <p:cNvPr id="1219" name="Group 2" descr=""/>
          <p:cNvPicPr/>
          <p:nvPr/>
        </p:nvPicPr>
        <p:blipFill>
          <a:blip r:embed="rId2"/>
          <a:stretch/>
        </p:blipFill>
        <p:spPr>
          <a:xfrm>
            <a:off x="1450800" y="3078000"/>
            <a:ext cx="1560600" cy="1285920"/>
          </a:xfrm>
          <a:prstGeom prst="rect">
            <a:avLst/>
          </a:prstGeom>
          <a:ln w="0">
            <a:noFill/>
          </a:ln>
        </p:spPr>
      </p:pic>
      <p:pic>
        <p:nvPicPr>
          <p:cNvPr id="1220" name="Group 2" descr=""/>
          <p:cNvPicPr/>
          <p:nvPr/>
        </p:nvPicPr>
        <p:blipFill>
          <a:blip r:embed="rId3"/>
          <a:stretch/>
        </p:blipFill>
        <p:spPr>
          <a:xfrm>
            <a:off x="1279440" y="4316400"/>
            <a:ext cx="1762200" cy="1285920"/>
          </a:xfrm>
          <a:prstGeom prst="rect">
            <a:avLst/>
          </a:prstGeom>
          <a:ln w="0">
            <a:noFill/>
          </a:ln>
        </p:spPr>
      </p:pic>
      <p:pic>
        <p:nvPicPr>
          <p:cNvPr id="1221" name="Group 2" descr=""/>
          <p:cNvPicPr/>
          <p:nvPr/>
        </p:nvPicPr>
        <p:blipFill>
          <a:blip r:embed="rId4"/>
          <a:stretch/>
        </p:blipFill>
        <p:spPr>
          <a:xfrm>
            <a:off x="1500120" y="5430960"/>
            <a:ext cx="1535040" cy="1287360"/>
          </a:xfrm>
          <a:prstGeom prst="rect">
            <a:avLst/>
          </a:prstGeom>
          <a:ln w="0">
            <a:noFill/>
          </a:ln>
        </p:spPr>
      </p:pic>
      <p:sp>
        <p:nvSpPr>
          <p:cNvPr id="1222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6F719A-CA36-4AD7-B0E3-469DD146B821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3600" spc="-1" strike="noStrike">
                <a:solidFill>
                  <a:srgbClr val="262626"/>
                </a:solidFill>
                <a:latin typeface="Cambria"/>
              </a:rPr>
              <a:t>PRISTATYMO TIKSLA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826560" y="1739880"/>
            <a:ext cx="77058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3332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Cambri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5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D048B-D399-42F6-92BF-AB76A0D07485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226" name="Group 32"/>
          <p:cNvGrpSpPr/>
          <p:nvPr/>
        </p:nvGrpSpPr>
        <p:grpSpPr>
          <a:xfrm>
            <a:off x="1763640" y="2470320"/>
            <a:ext cx="863640" cy="831600"/>
            <a:chOff x="1763640" y="2470320"/>
            <a:chExt cx="863640" cy="831600"/>
          </a:xfrm>
        </p:grpSpPr>
        <p:sp>
          <p:nvSpPr>
            <p:cNvPr id="1227" name="Oval 33"/>
            <p:cNvSpPr/>
            <p:nvPr/>
          </p:nvSpPr>
          <p:spPr>
            <a:xfrm>
              <a:off x="1763640" y="2509920"/>
              <a:ext cx="792360" cy="792000"/>
            </a:xfrm>
            <a:prstGeom prst="ellipse">
              <a:avLst/>
            </a:prstGeom>
            <a:gradFill rotWithShape="0">
              <a:gsLst>
                <a:gs pos="0">
                  <a:srgbClr val="f2ad54"/>
                </a:gs>
                <a:gs pos="100000">
                  <a:srgbClr val="ed991e"/>
                </a:gs>
              </a:gsLst>
              <a:lin ang="5400000"/>
            </a:gradFill>
            <a:ln cap="rnd" w="9360">
              <a:solidFill>
                <a:srgbClr val="e59a2b"/>
              </a:solidFill>
              <a:miter/>
            </a:ln>
            <a:effectLst>
              <a:outerShdw dist="12600" dir="54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28" name="TextBox 34"/>
            <p:cNvSpPr/>
            <p:nvPr/>
          </p:nvSpPr>
          <p:spPr>
            <a:xfrm>
              <a:off x="1908000" y="2470320"/>
              <a:ext cx="719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lt-LT" sz="4800" spc="-1" strike="noStrike">
                  <a:solidFill>
                    <a:srgbClr val="ffffff"/>
                  </a:solidFill>
                  <a:latin typeface="Century Gothic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9" name="Stačiakampis 26"/>
          <p:cNvSpPr/>
          <p:nvPr/>
        </p:nvSpPr>
        <p:spPr>
          <a:xfrm>
            <a:off x="2278080" y="2381400"/>
            <a:ext cx="66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3332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ambria"/>
              </a:rPr>
              <a:t>Pristatyti Pasvalio rajono viziją iki 2027 met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541160" y="549000"/>
            <a:ext cx="635004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VIZIJOS KŪRIMO EIGA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1522080" y="1557000"/>
            <a:ext cx="73436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mbria"/>
              </a:rPr>
              <a:t>Darbo grupėse suformuluoti 4 Pasvalio rajono vizijos iki 2027 m. variantai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mbria"/>
              </a:rPr>
              <a:t>Vyko internetinis balsavimas (apklausa) dėl tinkamiausio vizijos varianto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0a22e"/>
              </a:buClr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mbria"/>
              </a:rPr>
              <a:t>Apklausoje dalyvavo 453 respondentai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2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99719-6812-46AB-8AC5-CCF4501220FD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403280" y="596520"/>
            <a:ext cx="67788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lt-LT" sz="4000" spc="-1" strike="noStrike">
                <a:solidFill>
                  <a:srgbClr val="262626"/>
                </a:solidFill>
                <a:latin typeface="Cambria"/>
              </a:rPr>
              <a:t>KETURI VIZIJOS VARIANTAI 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34" name="Diagram 235" descr=""/>
          <p:cNvPicPr/>
          <p:nvPr/>
        </p:nvPicPr>
        <p:blipFill>
          <a:blip r:embed="rId1"/>
          <a:stretch/>
        </p:blipFill>
        <p:spPr>
          <a:xfrm>
            <a:off x="347760" y="1305000"/>
            <a:ext cx="8126280" cy="539424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4"/>
          <p:cNvSpPr/>
          <p:nvPr/>
        </p:nvSpPr>
        <p:spPr>
          <a:xfrm>
            <a:off x="7327800" y="6356520"/>
            <a:ext cx="112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C9DED-E07B-4422-99B7-506F76307EB9}" type="slidenum">
              <a:rPr b="0" lang="lt-LT" sz="1800" spc="-1" strike="noStrike">
                <a:solidFill>
                  <a:srgbClr val="464653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5:56:23Z</dcterms:created>
  <dc:creator>Arvydas</dc:creator>
  <dc:description/>
  <dc:language>en-US</dc:language>
  <cp:lastModifiedBy>„Windows“ vartotojas</cp:lastModifiedBy>
  <cp:lastPrinted>2019-06-21T10:28:12Z</cp:lastPrinted>
  <dcterms:modified xsi:type="dcterms:W3CDTF">2019-08-12T07:36:11Z</dcterms:modified>
  <cp:revision>650</cp:revision>
  <dc:subject/>
  <dc:title>Klaipėdos miesto strateginio plėtros plano 2013-2020 metams rengimas. Įvadinis susitikim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282699990</vt:lpwstr>
  </property>
</Properties>
</file>